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1169-2BAE-4109-9799-0CCDC9675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70B2-2E3C-4230-AEF5-1242A0B11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87FA-82F4-49A2-A9DC-BC023FD14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9EAB-71D9-4023-9CEE-A4B93FD66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A879-B8EA-4A93-9853-637E00D978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ACC0-628B-42C2-BD10-1BE421EDC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0C81-0F2D-4D7D-BE8B-644F2AA8F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C810-8671-4A7A-9C5F-8581E99D92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8371-32EF-4470-8446-1F1F6FE70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6944-07C4-4359-BE49-7F82EC5B2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0575-E38C-4A05-82AB-5CBB9F620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CCAF-DC14-45A7-960C-348A210B0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D568-A24D-454B-82DD-4A4053AF9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5BF6-7C4D-405B-AB17-100AA2A33D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63D9-AD92-40AC-9DD5-DA2CC731F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E844-2607-49BC-962F-FB2631E91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3DF7-C861-467C-960D-0FC560095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857E-6F1B-4222-A06E-BD98808A4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8FE7-36B6-404E-B04B-4C724A831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EFF4-7A90-4C0A-B2F4-789ECF4CA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4C2C-2021-4F35-9E66-51D452CB3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A0D6-86FD-404E-90FE-3C89DACEB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A2F9-F30E-4042-BD76-555299422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BD9C-90A7-4EF5-B645-3C967E08D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3440" y="-329760"/>
            <a:ext cx="12185640" cy="7824240"/>
            <a:chOff x="-3043440" y="-329760"/>
            <a:chExt cx="12185640" cy="7824240"/>
          </a:xfrm>
        </p:grpSpPr>
        <p:sp>
          <p:nvSpPr>
            <p:cNvPr id="1" name=""/>
            <p:cNvSpPr/>
            <p:nvPr/>
          </p:nvSpPr>
          <p:spPr>
            <a:xfrm>
              <a:off x="1486080" y="-4320"/>
              <a:ext cx="3220200" cy="69105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541520" y="-7560"/>
              <a:ext cx="3220200" cy="69040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03960" y="-2880"/>
              <a:ext cx="3224160" cy="69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20320" y="-11160"/>
              <a:ext cx="3856320" cy="689616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324440" y="15768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0000">
              <a:off x="-38520" y="1224720"/>
              <a:ext cx="4717440" cy="1605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387440" y="8136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20000">
              <a:off x="-2909520" y="1463760"/>
              <a:ext cx="5587920" cy="2847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60000">
              <a:off x="925560" y="1459080"/>
              <a:ext cx="6665400" cy="2765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100000">
              <a:off x="1906920" y="1382400"/>
              <a:ext cx="649872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342480" y="-7560"/>
              <a:ext cx="2018160" cy="36435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1541520" y="6240600"/>
              <a:ext cx="10683720" cy="6872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86080" y="6314040"/>
              <a:ext cx="3220200" cy="6076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1541520" y="6314040"/>
              <a:ext cx="322020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03960" y="6314040"/>
              <a:ext cx="3224160" cy="6076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20320" y="6314040"/>
              <a:ext cx="3856320" cy="6058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1541520" y="6232680"/>
              <a:ext cx="10683720" cy="6872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50080" y="6253560"/>
              <a:ext cx="1919880" cy="6685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900000">
              <a:off x="13521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900000">
              <a:off x="165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900000">
              <a:off x="-1348560" y="6086880"/>
              <a:ext cx="1648080" cy="901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-473400" y="6239880"/>
              <a:ext cx="658764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-109620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090680" y="6316200"/>
              <a:ext cx="2468880" cy="609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584928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4869720" y="6239880"/>
              <a:ext cx="427248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1541520" y="6274080"/>
              <a:ext cx="10683720" cy="208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sldNum" idx="1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4ED2B2-6CE1-4E7F-B644-9BAC23B2B57B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3037320" y="-349920"/>
            <a:ext cx="12192480" cy="7219080"/>
            <a:chOff x="-3037320" y="-349920"/>
            <a:chExt cx="12192480" cy="7219080"/>
          </a:xfrm>
        </p:grpSpPr>
        <p:sp>
          <p:nvSpPr>
            <p:cNvPr id="70" name=""/>
            <p:cNvSpPr/>
            <p:nvPr/>
          </p:nvSpPr>
          <p:spPr>
            <a:xfrm>
              <a:off x="1486080" y="-18720"/>
              <a:ext cx="3220200" cy="6887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-1541520" y="-21960"/>
              <a:ext cx="3220200" cy="6881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03960" y="-17280"/>
              <a:ext cx="3224160" cy="68832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0320" y="-25560"/>
              <a:ext cx="3856320" cy="68738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1324440" y="142920"/>
              <a:ext cx="6498360" cy="2440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0000">
              <a:off x="-37440" y="1206360"/>
              <a:ext cx="4717440" cy="1600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1387440" y="66600"/>
              <a:ext cx="6498360" cy="2440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20000">
              <a:off x="-2900520" y="1440360"/>
              <a:ext cx="5570280" cy="2847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60000">
              <a:off x="925200" y="1440000"/>
              <a:ext cx="6665400" cy="275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100000">
              <a:off x="1906200" y="1363320"/>
              <a:ext cx="6498720" cy="2440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42480" y="-21960"/>
              <a:ext cx="2018160" cy="36316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541520" y="3870000"/>
              <a:ext cx="1068372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86080" y="3943080"/>
              <a:ext cx="3220200" cy="605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1541520" y="3943080"/>
              <a:ext cx="3220200" cy="6040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03960" y="3943080"/>
              <a:ext cx="3224160" cy="60552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20320" y="3943080"/>
              <a:ext cx="3856320" cy="6040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1528200" y="3893760"/>
              <a:ext cx="1068336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50080" y="3882600"/>
              <a:ext cx="1919880" cy="6660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900000">
              <a:off x="1355400" y="3766680"/>
              <a:ext cx="16837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900000">
              <a:off x="19800" y="3766680"/>
              <a:ext cx="16837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900000">
              <a:off x="-1346760" y="3715920"/>
              <a:ext cx="1642320" cy="901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-473400" y="3870000"/>
              <a:ext cx="6587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-1096200" y="3870000"/>
              <a:ext cx="284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090680" y="3946320"/>
              <a:ext cx="2468880" cy="606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848920" y="3870000"/>
              <a:ext cx="284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69720" y="3870000"/>
              <a:ext cx="42724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541520" y="3903480"/>
              <a:ext cx="10683720" cy="205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1541520" y="4568040"/>
              <a:ext cx="1068372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1541520" y="5407560"/>
              <a:ext cx="10683720" cy="1448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-83160" y="2612160"/>
              <a:ext cx="376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CA7925-F9DE-48D9-B233-BFC2DE2ECF34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31960" y="1309680"/>
            <a:ext cx="55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Air pollution and greenhouse 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1320" y="2971800"/>
            <a:ext cx="33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Athanasios Kungo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440" y="46483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Civil Engineering De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Aristotle University of Thessalo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79560" y="1989000"/>
            <a:ext cx="395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Causes for Air Pol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Carbon monox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Sulphur ox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Nitrogen ox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Hydrocarb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O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Suspended p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60560" y="1989000"/>
            <a:ext cx="379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Greenhouse effect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Nitrous ox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CF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O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857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857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373040"/>
            <a:ext cx="548640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14720" y="278136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SzPct val="85000"/>
              <a:buFont typeface="Times New Roman"/>
              <a:buChar char="-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8:53Z</dcterms:created>
  <dc:creator>Samaras Petros</dc:creator>
  <dc:description/>
  <dc:language>en-US</dc:language>
  <cp:lastModifiedBy>KiloByte</cp:lastModifiedBy>
  <dcterms:modified xsi:type="dcterms:W3CDTF">2019-10-16T18:03:05Z</dcterms:modified>
  <cp:revision>28</cp:revision>
  <dc:subject/>
  <dc:title>PowerPoint Presentation</dc:title>
</cp:coreProperties>
</file>